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BB0-A38B-4D5A-9F5C-2B79333A51E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09A-6FF4-4F63-B7FE-ECCC91A9A5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20T11:50:18Z</dcterms:modified>
  <cp:revision>223</cp:revision>
  <dc:subject/>
  <dc:title>Slide 1</dc:title>
</cp:coreProperties>
</file>